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0AE-C6B8-4F5F-8550-91741A9E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A5E-BBA1-4793-B273-201E83AF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F8D-998E-44B0-9441-0761ED53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CEF-0E02-47D5-844D-743153E1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8CD-2B2E-4D16-8526-9475A01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827-EB56-455A-8FD6-C13C23C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1A0-6B31-4886-9FD8-8D25EEED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2A5-725C-4300-BFAF-F17FAC9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577-8FA8-43E7-85F1-66E4BF43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AB5-2833-4585-AFD5-5C4EA00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405-56D2-4703-A56C-080D762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1F1-E0DF-43E1-9113-6EC8831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EB63-4DE3-49EA-9441-EDCC3CA1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upload.wikimedia.org/wikipedia/commons/2/2e/Tigerramki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wikipedia.org/wiki/File:Rhino-216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en.wikipedia.org/wiki/File:Nijlpaard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homsons-gazelle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File:Suricata.suricatta.6861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4667400"/>
            <a:ext cx="3086280" cy="44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4724280"/>
            <a:ext cx="294984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56000" y="0"/>
            <a:ext cx="3402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14640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1280" y="76320"/>
            <a:ext cx="306864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38520" y="4724280"/>
            <a:ext cx="2955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644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Tigerramk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648320"/>
            <a:ext cx="307512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lack Rhinoceros, Diceros bicorni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91080" y="133200"/>
            <a:ext cx="2786040" cy="428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ommon hippopotamus, Hippopotamus amphibiu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89280" y="4648320"/>
            <a:ext cx="3168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Thomson's Gaze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95520" cy="419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Komodo dragon Varanus komodoensis Ragunan Zoo 2.JPG"/>
          <p:cNvPicPr/>
          <p:nvPr/>
        </p:nvPicPr>
        <p:blipFill>
          <a:blip r:embed="rId5"/>
          <a:stretch/>
        </p:blipFill>
        <p:spPr>
          <a:xfrm>
            <a:off x="354348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le:Lightmatter flamingo.jpg"/>
          <p:cNvPicPr/>
          <p:nvPr/>
        </p:nvPicPr>
        <p:blipFill>
          <a:blip r:embed="rId6"/>
          <a:stretch/>
        </p:blipFill>
        <p:spPr>
          <a:xfrm>
            <a:off x="3657600" y="45720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8T22:47:18Z</dcterms:modified>
  <cp:revision>10</cp:revision>
  <dc:subject/>
  <dc:title>Slide 1</dc:title>
</cp:coreProperties>
</file>